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53084-BC8A-46AA-8332-B2331CD1E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75B5E-2BCE-40F0-BE94-4CD03A39E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CDB3A-9ADA-419E-9B64-C7654F554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1B09A-85F9-432F-9230-AAC3CAC2F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9C63-2285-4022-BF47-BFC138842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6A0C0-78F7-4182-9636-95BCD946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58C58-4EEC-457A-B28B-3A1E42B2D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5DB0-4B12-4B8C-A247-44D2B687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E960-A87A-49E3-894B-8921A3213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04AA3-30FB-4782-AE47-5A023256A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10B4C-5C87-46FC-9D82-660A02C57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CEA02-FB8C-47A3-BEB3-6196F30DE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DBF9-2B95-4687-A805-46B7AC981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ALL IS THE TRE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tion of proportional relationship and direct variation</a:t>
            </a:r>
            <a:endParaRPr b="0" lang="en-US" sz="3200" spc="-1" strike="noStrike">
              <a:solidFill>
                <a:srgbClr val="000000"/>
              </a:solidFill>
              <a:latin typeface="Arial"/>
            </a:endParaRPr>
          </a:p>
        </p:txBody>
      </p:sp>
      <p:pic>
        <p:nvPicPr>
          <p:cNvPr id="43" name="" descr=""/>
          <p:cNvPicPr/>
          <p:nvPr/>
        </p:nvPicPr>
        <p:blipFill>
          <a:blip r:embed="rId1"/>
          <a:stretch/>
        </p:blipFill>
        <p:spPr>
          <a:xfrm>
            <a:off x="7543800" y="914400"/>
            <a:ext cx="132552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nonia has been the heart of the most important timber-producing of the Oregon state, and logging has played a tremendous role in the history of the tow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radition carries on from many generations, many Vernonia students want to be loggers in the future.  There are total 46 math topics that logging workers need to know.  Among of them are the application of proportional relationship and direct variat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unit will focus on the conceptual understanding of proportional relationship and direct variation.  In order to demonstrate this understanding, students will use models, draw pictures, use multiple appropriate representations to their audiences.  Finally, they will apply their understanding of the unit in a culminating pro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important that logging workers need to know the proportional relationships and direct var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QUESTIONS</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990720" y="1295280"/>
            <a:ext cx="670536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roportional relationships and direct variation important for logging workers or they can work without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understanding proportional relationship and direct variations make their logging job eas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ropor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onsider the polygons are simi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proportion be used to solv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the equation y = kx represent the proportional relation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roportional relationships can be described by using rules, tables, or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59:15Z</dcterms:created>
  <dc:creator>Nga Frederiksen</dc:creator>
  <dc:description/>
  <dc:language>en-US</dc:language>
  <cp:lastModifiedBy>Nga Frederiksen</cp:lastModifiedBy>
  <dcterms:modified xsi:type="dcterms:W3CDTF">2010-08-04T06:28:37Z</dcterms:modified>
  <cp:revision>11</cp:revision>
  <dc:subject/>
  <dc:title>HOW TALL IS THE TREE?</dc:title>
</cp:coreProperties>
</file>